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F0C-AC6E-4F2D-98E6-B752553A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BDD-8009-41B8-A143-489C5EC3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8CE-3CFB-491F-A4F0-4A189C80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536-F163-4538-9995-062EBB19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3C3-BCC7-4106-B3B2-DDFFD9C5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F73-C7E2-4147-8E9A-D8DE359E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42C-3462-4E6E-B498-F6A0FB29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CAC-E717-40A0-A8BF-BA78A228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762-9BAD-49D5-AF21-B7EFB747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196-767F-449A-BE35-BC24516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DCA-B72C-4086-85B5-73069456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183-1AA8-4AD9-AA85-AB9045E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48BE-9275-4887-8C9E-EA88E21580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无标题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428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vvv" descr=""/>
          <p:cNvPicPr/>
          <p:nvPr/>
        </p:nvPicPr>
        <p:blipFill>
          <a:blip r:embed="rId2"/>
          <a:stretch/>
        </p:blipFill>
        <p:spPr>
          <a:xfrm>
            <a:off x="1676520" y="-304920"/>
            <a:ext cx="4754520" cy="3840120"/>
          </a:xfrm>
          <a:prstGeom prst="rect">
            <a:avLst/>
          </a:prstGeom>
          <a:ln w="0">
            <a:noFill/>
          </a:ln>
        </p:spPr>
      </p:pic>
      <p:pic>
        <p:nvPicPr>
          <p:cNvPr id="43" name="ppp" descr=""/>
          <p:cNvPicPr/>
          <p:nvPr/>
        </p:nvPicPr>
        <p:blipFill>
          <a:blip r:embed="rId3"/>
          <a:stretch/>
        </p:blipFill>
        <p:spPr>
          <a:xfrm>
            <a:off x="2362320" y="114300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0960" y="611496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Chiller"/>
              </a:rPr>
              <a:t>By Tian Fengch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未命名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8862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13960" y="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1566400">
            <a:off x="1981080" y="5943600"/>
            <a:ext cx="62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Verdana"/>
                <a:ea typeface="PMingLiU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211932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990720" y="53352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Listen to the passage to find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answers to thes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0160" y="23623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1.What scientific work is Einstein famous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40920" y="4267080"/>
            <a:ext cx="66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2.Where did he spend the last part of his 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82480" y="33526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Scientific research/new discoveries in phy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0600" y="50292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At a university in the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3960" y="380880"/>
            <a:ext cx="52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ails about 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880" y="933480"/>
            <a:ext cx="6473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or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or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ctor’s deg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cientific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he got for his new discov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ved to the U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9480" y="1066680"/>
            <a:ext cx="42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Much 14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879;in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9120" y="15238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April 18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955;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8480" y="1981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6080" y="243828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First as a teacher,then in a governmen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7480" y="29718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350532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etween 1905and 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71600" y="3927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2160" y="4384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Recei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worldwide p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5600" y="537516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33 with his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29368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University of Zuri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4880" y="198108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Federal Institute of Techn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lbert2" descr=""/>
          <p:cNvPicPr/>
          <p:nvPr/>
        </p:nvPicPr>
        <p:blipFill>
          <a:blip r:embed="rId1"/>
          <a:stretch/>
        </p:blipFill>
        <p:spPr>
          <a:xfrm>
            <a:off x="7350120" y="5334120"/>
            <a:ext cx="1584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5640" y="84240"/>
            <a:ext cx="43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</a:rPr>
              <a:t>True or false 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080" y="57456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Albert Einstein was curious about everything around him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 was yo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141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He had learned everything all by him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4320" y="2022480"/>
            <a:ext cx="816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He did not like to go to school and he found it hard to get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ith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7200" y="2936880"/>
            <a:ext cx="78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The period between 1905 and 1915 was a very importan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for he received higher education at univer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760" y="38512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5.Einstein cared little for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8280" y="438480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6.Once somebody saw him using a bank note as a bookm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000" y="4800600"/>
            <a:ext cx="79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7.Einstein also spent a lit of time working for human righ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3760" y="563868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8.Einstein loved music very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804600">
            <a:off x="533160" y="5331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804600">
            <a:off x="609120" y="1980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804600">
            <a:off x="609120" y="380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804600">
            <a:off x="609120" y="472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804600">
            <a:off x="609120" y="563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4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440" y="28954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5440" y="4343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010280" y="5376960"/>
          <a:ext cx="190512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376960"/>
                    <a:ext cx="19051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89120" y="30492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ine05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857480" cy="15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4600" y="19605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be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50336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1295280"/>
              <a:gd name="textAreaBottom" fmla="*/ 12736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2"/>
                  <a:pt x="10800" y="1163"/>
                </a:cubicBezTo>
                <a:lnTo>
                  <a:pt x="10800" y="10275"/>
                </a:lnTo>
                <a:cubicBezTo>
                  <a:pt x="10800" y="10857"/>
                  <a:pt x="5400" y="11438"/>
                  <a:pt x="0" y="11438"/>
                </a:cubicBezTo>
                <a:cubicBezTo>
                  <a:pt x="5400" y="11438"/>
                  <a:pt x="10800" y="12020"/>
                  <a:pt x="10800" y="12601"/>
                </a:cubicBezTo>
                <a:lnTo>
                  <a:pt x="10800" y="20437"/>
                </a:lnTo>
                <a:cubicBezTo>
                  <a:pt x="10800" y="210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4680" y="129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do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高兴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甘心做…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1800" y="2417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th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对…感到满足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8480" y="165564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e is content to live in the country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36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om is content to eat simpl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98760" y="281952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No one is content with what he h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920" y="320040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Don’t be content with small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" y="36370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f. John </a:t>
            </a:r>
            <a:r>
              <a:rPr b="0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contented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himself with two glasses of beer for each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680" y="4821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le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551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1440" y="43639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通，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4320" y="52783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导致某种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73280" y="482112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ll roads lead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69320" y="558324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accident led to three de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0680" y="596412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ard work leads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ZW_008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6160" y="803160"/>
            <a:ext cx="28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live a…life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过着…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0320" y="126036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peasants in the past lived a har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0480" y="175248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Poor Tom lives a dog’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6320" y="2251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9760" y="274320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Liu Hulan died a heroic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0840" y="31240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he dreamt a sound d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5960" y="365760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uc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位于句首，表示“这”或“这些”时，谓语动词要倒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720" y="430848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is my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9760" y="484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as the situation we were f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4440" y="54514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ere his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55960" y="601992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are the results we have g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ine23" descr=""/>
          <p:cNvPicPr/>
          <p:nvPr/>
        </p:nvPicPr>
        <p:blipFill>
          <a:blip r:embed="rId1"/>
          <a:stretch/>
        </p:blipFill>
        <p:spPr>
          <a:xfrm>
            <a:off x="1752480" y="430200"/>
            <a:ext cx="6019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1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ooo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34:19Z</dcterms:created>
  <dc:creator>Terence</dc:creator>
  <dc:description/>
  <dc:language>en-US</dc:language>
  <cp:lastModifiedBy>Terence</cp:lastModifiedBy>
  <dcterms:modified xsi:type="dcterms:W3CDTF">2002-03-01T16:48:23Z</dcterms:modified>
  <cp:revision>20</cp:revision>
  <dc:subject/>
  <dc:title>PowerPoint 演示文稿</dc:title>
</cp:coreProperties>
</file>